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3E5-64A7-4596-B982-71BE7920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05F7-87DE-47D0-A25B-D81C51D5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9137-D5F0-4AA5-B056-65B60866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BC9-F984-4440-B974-41FBF9E2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6193-EA1C-490E-AEA2-AD312253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E6F4-AC65-4B44-9187-86B6F5E6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502D-B506-46D6-8670-BC1B777B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A844-B3AF-46BC-B37A-B8630E8E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39DC-F776-4F03-B918-205E3AFC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13FA-90CA-4A92-BBE2-25597873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E5AF-0939-4D95-8C48-14591BDE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F81-3F5C-4326-9F3B-AB042D95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7CAA-926B-4BD7-BB21-C1570DB0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8708-8E52-4E98-A6DA-FADB2C7D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6F90-5D6B-4C38-8FBC-F2E88078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82FE-81B1-4481-9DDE-EA3BC657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4694-632F-4D20-B8CA-77CFFFA2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4ECDD-7A21-45DF-BAA0-30F44AEA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AE1FC-89AE-41A5-B52E-83869122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531AE-99E9-462A-A7F3-3DEFA7CC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8B5C2-406B-49D8-B87B-59B45466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60CDF-BC12-49DB-AF9B-A3FAF2ED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82F-F150-450A-BF62-C43C5332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171A5-EA6E-4EB6-A94A-550F0153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26E5E-0873-43DF-BED2-430ACE47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87D1B-A047-49C0-9F86-3030D97B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9BA9B-3F68-40C0-899C-E783C969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BBB0D-7909-43F6-8650-D4B5317F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9A991-9DCD-40C5-969B-C4961340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762C-8FE0-473B-AC67-F35DEB34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0B6F2-351B-477D-A11B-ACBDEEC3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E3767-731D-4A15-BB00-192AF5D4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48DFE-32F8-4CFF-A692-CF962F3A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A6B-BE37-44F3-AB07-36D4BC0E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CC41C-1FC2-4548-B4B4-E25AD369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6A831-B114-4766-BFEF-96838EBD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2793F-C7BB-4839-B8EE-FF10452C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90673-9520-4F9D-825A-1D74A837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794F0-8866-42F5-A96C-6CC3ED35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41FBA-B0D9-4D0C-AFAF-8189B83A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0A574-AEBA-41E0-860D-EBF33572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5F218-41F9-4755-B238-A7738D08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07626-7E32-48FF-90A9-74F49A61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C715E-0D5A-430B-AA18-081A73E9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34B-2659-4D16-8F8A-DE4AC2DA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35475-A4CE-44BC-B209-621C9FBB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F5E02-FFC3-46C8-9400-B1256B66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A9D2E-DEDC-47CC-B19E-FCFF685B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BC410-57B3-4BF1-95F2-F8E4086A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DDC3A-B556-4CD4-9419-E7D98DFD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2653B-81AA-4307-93A2-07595757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B319E-5A4B-4FE1-94FB-9CE40076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7A86A-39E9-4435-B1CC-66624DA4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47D15-FE9B-4B9C-88F8-BB4BCF63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17360-07D3-4750-99A9-CBB42B58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A52B-DB6E-4473-BD18-98CB608E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281C2-B0FA-4E6E-8488-DAC89A81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D57EC-592E-4442-8D4B-118CD5FE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111D5-57D7-4C0B-B4D2-0C594347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1D0B8-9EB3-4E91-BA00-86CFA932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C9F75-AF01-47AD-9830-D6F976F2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53692-4FD7-4F76-8C46-1116AF1F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450BE-CB3E-4D31-93B3-0655E976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0C4CE-C3A1-46F8-9625-024E0BFE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4E5EF-ED1D-47FC-B567-EDD2298E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180CE-A81E-4D14-9049-6FB164FA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EED-6CEE-4D1F-9BEE-41264466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68213-C638-45B1-848E-7764476F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43666-0124-4BFA-BD89-8CD6AFC9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83492-B12A-42B1-8FC7-2A19F20D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B98-4668-4DBE-B88E-2A1F201C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149-0D8D-4DA9-B4C3-40C2EA04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91A5-14B6-4172-B729-2C6C400D4799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C574-3047-423D-9EA8-DB109D76763B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FA3C-FDEF-4C3B-BAE2-5815F6A74889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20DA-7370-4C25-9B6C-F125AA214B7E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57B3-2F44-40B8-9D11-1AD33BF34A56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8FEB-B8CC-430E-9BD7-4B69A3A3369B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0" y="1139760"/>
            <a:ext cx="896148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ff33"/>
                </a:solidFill>
                <a:latin typeface="Franklin Gothic Book"/>
              </a:rPr>
              <a:t>Good practice IQ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Content Placeholder 2"/>
          <p:cNvSpPr/>
          <p:nvPr/>
        </p:nvSpPr>
        <p:spPr>
          <a:xfrm>
            <a:off x="457200" y="1600200"/>
            <a:ext cx="825804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บูรณาการตัวชี้วัด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พร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มศ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กอ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ละอื่นๆ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จัดทำ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ction Plan OFI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ผนการนำผลการประเมินคุณภาพไปใช้ในการพัฒนาคุณภาพอย่างต่อเนื่อง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ปรับโครงสร้างคณะกรรมการตรวจประเมินคุณภาพภายในจากเดิมเป็นคณาจารย์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ผู้เชี่ยวชาญ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ผู้ทรงคุณวุฒิ  กำหนด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เชิญชว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ผู้บริหาร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ณบดี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รองคณบดี มาร่วมเป็นคณะกรรมการตรวจประเมินคุณภาพภายใ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ค้นหาแนวทางการปฏิบัติที่ดี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นวทา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้นหาจากผลการตรวจประเมิ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ณะ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หน่ว่ยงานนำเสน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ต่งตั้งคณะกรรมการ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Site Visit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ละตัดสินผลการให้รางวั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99ff33"/>
                </a:solidFill>
                <a:latin typeface="Tahoma"/>
                <a:cs typeface="Tahoma"/>
              </a:rPr>
              <a:t>รายชื่อสมาชิกกลุ่ม </a:t>
            </a:r>
            <a:r>
              <a:rPr b="1" lang="en-US" sz="4600" spc="-1" strike="noStrike">
                <a:solidFill>
                  <a:srgbClr val="99ff33"/>
                </a:solidFill>
                <a:latin typeface="Tahoma"/>
                <a:ea typeface="Tahoma"/>
              </a:rPr>
              <a:t>5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40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ดร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ิสาพร  วัฒนศัพท์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นเรศวร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ประธา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งจิระประภา  ศรีปัตา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นเรศวร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อาจารย์ชาญชัย  รัตนวิบูลย์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นเรศว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งจิระประภา  ศรีปัตตา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นเรศว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อาจารย์มงคล  มาลยารม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สงขลานครินทร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งสาวอัจฉราวรรณ  ช่วยเนียม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สงขลานครินทร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ยสุริยะเ  สอนสุระ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มหาสารครา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ยอวยพร  เรืองศรี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วลัยลักษณ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อาจารย์ศักดิ์พงศ์  หอมหว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ราชภัฎมหาสารครา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ยบัณฑิต  สุวรรณโท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ราชภัฎมหาสารครา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46784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99ff33"/>
                </a:solidFill>
                <a:latin typeface="Tahoma"/>
                <a:cs typeface="Tahoma"/>
              </a:rPr>
              <a:t>การประเมินการสอน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8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300" spc="-1" strike="noStrike">
                <a:solidFill>
                  <a:srgbClr val="ff7c80"/>
                </a:solidFill>
                <a:latin typeface="Tahoma"/>
                <a:cs typeface="Tahoma"/>
              </a:rPr>
              <a:t>รูปแบบการประเมินการสอน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Tahoma"/>
                <a:cs typeface="Tahoma"/>
              </a:rPr>
              <a:t>มีระบบการประเมินออนไลน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Tahoma"/>
                <a:cs typeface="Tahoma"/>
              </a:rPr>
              <a:t>มีระบบการประเมินด้วยแบบสอบถา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Tahoma"/>
                <a:cs typeface="Tahoma"/>
              </a:rPr>
              <a:t>ดำเนินการควบคู่กันทั้งการประเมินออนไลน์และแบบสอบถา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8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300" spc="-1" strike="noStrike">
                <a:solidFill>
                  <a:srgbClr val="ff7c80"/>
                </a:solidFill>
                <a:latin typeface="Tahoma"/>
                <a:cs typeface="Tahoma"/>
              </a:rPr>
              <a:t>ระยะเวลาประเมิน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Tahoma"/>
                <a:cs typeface="Tahoma"/>
              </a:rPr>
              <a:t>รายเทอ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Tahoma"/>
                <a:cs typeface="Tahoma"/>
              </a:rPr>
              <a:t>รายวิช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Tahoma"/>
                <a:cs typeface="Tahoma"/>
              </a:rPr>
              <a:t>ประเมินอาจารย์รายบุคค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7c80"/>
                </a:solidFill>
                <a:latin typeface="Tahoma"/>
                <a:cs typeface="Tahoma"/>
              </a:rPr>
              <a:t>กลไลการกระตุ้นให้นักศึกษา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ประชาสัมพันธ์ด้วยวิธีการต่าง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บังคับให้กรอกแบบประเมินโดยผูกโยงกับการแจ้งเกรด หากนักศึกษายังไม่ประเมินจะได้รับแจ้งผลการเรียนช้าออก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ารชี้แจงผ่าน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-mail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รณีที่ยังไม่เข้าประเมินการสอ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ประเมินหลังจบการสอนทันที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ให้เวล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15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นาที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จัดเตรียม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mputer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ให้พร้อมสำหรับการประเมินออนไลน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จัดตั้งเครือข่ายนักศึกษาเป็นยุวทูตการประกันคุณภาพ เพื่อเชิญชวนให้เพื่อนๆนักศึกษาเข้าไปประเมินออนไลน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46784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99ff33"/>
                </a:solidFill>
                <a:latin typeface="Tahoma"/>
                <a:cs typeface="Tahoma"/>
              </a:rPr>
              <a:t>การประเมินการสอน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7c80"/>
                </a:solidFill>
                <a:latin typeface="Tahoma"/>
                <a:cs typeface="Tahoma"/>
              </a:rPr>
              <a:t>การนำผลการประเมินการสอนไปใช้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ผ่านการประชุมกรรมการคณะ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ที่ประชุมผู้บริหาร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เชื่อมโยงผลการประเมิน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PA) 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ของอาจารย์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เชื่อมโยงกับ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Bonus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และการเลื่อนขั้นเงินเดือ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เปรียบเทียบผลความพึงพอใจต่อประสิทธิภาพการสอนเป็นรายวิช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นำผลไปปรับปรุงการจัดการเรียนการสอ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อาจารย์แต่ละท่านสามารถเข้าไปดูผลการประเมินของตนเองได้เท่านั้นแต่คณบดีสามารถเข้าดูผลการประเมินของอาจารย์ได้ทุกคน และทุกรายวิช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46784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99ff33"/>
                </a:solidFill>
                <a:latin typeface="Tahoma"/>
                <a:cs typeface="Tahoma"/>
              </a:rPr>
              <a:t>การประเมินการสอน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7c80"/>
                </a:solidFill>
                <a:latin typeface="Tahoma"/>
                <a:cs typeface="Tahoma"/>
              </a:rPr>
              <a:t>ข้อเสนอแน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อาจจะใช้ระบบ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IT  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โดย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Lock 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ระบบสำหรับนักศึกษาที่ยังไม่ประเมินการสอนให้เข้าประเมินการสอน ไม่เช่นนั้นจะไม่สามารถทำกิจกรรมผ่านเว็บไซต์ได้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การกำหนดให้นักศึกษาเข้าไปประเมินการสอนแบบออนไลน์โดยผูกโยงกับการแจ้งเกรดมีข้อดีคือ นักศึกษาเข้าไปประเมินประมาณ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90-100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ea typeface="Tahoma"/>
              </a:rPr>
              <a:t>%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แต่ผลการประเมินอาจจะตรงกันข้ามกับความเป็นจริง เนื่องจากนักศึกษาไม่ชอบให้มีการบังคับ และเสี่ยงต่อการถูกนักศึกษาฟ้องร้อง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46784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99ff33"/>
                </a:solidFill>
                <a:latin typeface="Tahoma"/>
                <a:cs typeface="Tahoma"/>
              </a:rPr>
              <a:t>การประเมินการสอน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46784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ff33"/>
                </a:solidFill>
                <a:latin typeface="Franklin Gothic Book"/>
              </a:rPr>
              <a:t>Good Practice </a:t>
            </a:r>
            <a:r>
              <a:rPr b="1" lang="th-TH" sz="4600" spc="-1" strike="noStrike">
                <a:solidFill>
                  <a:srgbClr val="99ff33"/>
                </a:solidFill>
                <a:latin typeface="Franklin Gothic Book"/>
              </a:rPr>
              <a:t>การประเมินการสอน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55280" y="1267920"/>
            <a:ext cx="7467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ีการประเมินหลังสิ้นสุดการสอนทันทีโดยให้เวลานักศึกษา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15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ที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ท้ายชั่วโมง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ทั้งนี้มีการเตรียมความพร้อมของห้องคอมพิวเตอร์ และเครื่องคอมพิวเตอร์ สำหรับการประเมินการสอ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ณะพยาบาลศาสตร์  มหาวิทยาลัยขอนแก่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ีการสร้างเครือข่ายยุวทูตประกันคุณภาพโดยคัดเลือกจากตัวแทนนักศึกษาให้มีหน้าที่ชี้แจง ประชาสัมพันธ์  และชักชวนเพื่อนๆนักศึกษา ให้ไปประเมินการสอนผ่านระบบออนไลน์  รวมทั้งอธิบายและชี้แจงขั้นตอนการประเมินแบบออนไลน์ผ่านเว็บไซต์ให้รับทราบโดยทั่วกั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ณะวิศวกรรมศาสตร์  มหาวิทยาลัยขอนแก่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ีการประชาสัมพันธ์ให้นักศึกษาเข้าไปประเมินการสอนออนไลน์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1.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ประชาสัมพันธ์ผ่านชองทางต่างๆ เช่น ตัวอาจารย์ผู้สอน และสำนักวิชาศึกษาทั่วไป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.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่ง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E-mail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ไปยังนักศึกษาที่ยังไม่ได้ประเมินให้เข้ามาประเมินการสอ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วลัยลักษณ์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99ff33"/>
                </a:solidFill>
                <a:latin typeface="Tahoma"/>
                <a:cs typeface="Tahoma"/>
              </a:rPr>
              <a:t>การตรวจประเมินคุณภาพภายใน</a:t>
            </a:r>
            <a:r>
              <a:rPr b="1" lang="th-TH" sz="3600" spc="-1" strike="noStrike">
                <a:solidFill>
                  <a:srgbClr val="99ff33"/>
                </a:solidFill>
                <a:latin typeface="Tahoma"/>
                <a:ea typeface="Tahoma"/>
              </a:rPr>
              <a:t>(</a:t>
            </a:r>
            <a:r>
              <a:rPr b="1" lang="en-US" sz="3600" spc="-1" strike="noStrike">
                <a:solidFill>
                  <a:srgbClr val="99ff33"/>
                </a:solidFill>
                <a:latin typeface="Tahoma"/>
                <a:ea typeface="Tahoma"/>
              </a:rPr>
              <a:t>IQA)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7c80"/>
                </a:solidFill>
                <a:latin typeface="Tahoma"/>
                <a:cs typeface="Tahoma"/>
              </a:rPr>
              <a:t>การตรวจประเมินคุณภาพภายใ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ดำเนินการทุกปีการศึกษ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ช่วงเดือน  กรกฎาคม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–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สิงหาค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ตรวจระดับสถาบัน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คณ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หน่วยงานสนับสนุ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7c80"/>
                </a:solidFill>
                <a:latin typeface="Tahoma"/>
                <a:cs typeface="Tahoma"/>
              </a:rPr>
              <a:t>ตัวชี้วัด</a:t>
            </a:r>
            <a:r>
              <a:rPr b="0" lang="th-TH" sz="2800" spc="-1" strike="noStrike">
                <a:solidFill>
                  <a:srgbClr val="ff7c80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ff7c80"/>
                </a:solidFill>
                <a:latin typeface="Tahoma"/>
                <a:ea typeface="Tahoma"/>
              </a:rPr>
              <a:t>KP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KPI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สกอ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44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ตัว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9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องค์ประก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บูรณาการตัวชี้วัด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มข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.)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โดยนำเอาตัวชี้วัด สกอ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สมศ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พร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 THES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และตัวชี้วัดแผนของมหาวิทยาลั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ำหนดตัวชี้วัดที่สะท้อนอัตลักษณ์และบริบทของแต่ละคณะ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หน่วย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มีการปรับปรุงตัวชี้วัดทุกปีการศึกษาเพื่อให้เหมาะส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6840" y="1599840"/>
            <a:ext cx="8258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100" spc="-1" strike="noStrike">
                <a:solidFill>
                  <a:srgbClr val="ffffff"/>
                </a:solidFill>
                <a:latin typeface="Tahoma"/>
                <a:cs typeface="Tahoma"/>
              </a:rPr>
              <a:t>การนำผลการประเมินคุณภาพไปใช้ในการพัฒนาคุณภาพ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นำเสนอที่ประชุมกรรมการคณะ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รรมการประกันคุณภาพ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ที่ประชุมคณบดี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ที่ประชุมสภามหาวิทยาลั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ระดมสมองเพื่อนำผลการประเมินไปใช้ในการพัฒนาคุณภาพอย่างต่อเนื่อ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มข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2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จัดทำประกาศมหาวิทยาลัยให้นำเอาผลการประเมินไปใช้ในการพัฒนาคุณภาพ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  <a:ea typeface="Tahoma"/>
              </a:rPr>
              <a:t>Action Plan OFI) 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นำเสนอต่อมหาวิทยาลัย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2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ทุกคณะ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หน่วยงานจะต้องนำเสนอประเด็นที่คณะ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หน่วยงานได้นำผลการประเมินไปใช้ในการพัฒนาคุณภาพอย่างต่อเนื่องรวมทั้งพัฒนาการของคณะ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หน่วยงานในรอบปีที่ผ่านมา นำเสนอต่อคณะกรรมการตรวจประเมินคุณภาพภายในของมหาวิทยาลัย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2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ผลการตรวจประเมินคุณภาพภายใน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  <a:ea typeface="Tahoma"/>
              </a:rPr>
              <a:t>IQA) 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นำไปเชื่อมโยงกับคำรับรองการปฏิบัติราชการและการประเมินผลการดำเนินงานของผู้บริหารระดับสูง  ทำให้เกิดการบูรณาการเชื่อมโยงผลการดำเนินงานกับการประเมินคุณภาพ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สร้างวัฒนธรรมการประเมินคุณภาพ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.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สิ้นสุดกระบวนการตรวจประเมิ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.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มีการค้นหา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good pract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.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มีการปรับแผนปฏิบัติการ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.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จัดงาน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Show&amp;share, K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99ff33"/>
                </a:solidFill>
                <a:latin typeface="Tahoma"/>
                <a:cs typeface="Tahoma"/>
              </a:rPr>
              <a:t>การตรวจประเมินคุณภาพภายใน</a:t>
            </a:r>
            <a:r>
              <a:rPr b="1" lang="th-TH" sz="3900" spc="-1" strike="noStrike">
                <a:solidFill>
                  <a:srgbClr val="99ff33"/>
                </a:solidFill>
                <a:latin typeface="Tahoma"/>
                <a:ea typeface="Tahoma"/>
              </a:rPr>
              <a:t>(</a:t>
            </a:r>
            <a:r>
              <a:rPr b="1" lang="en-US" sz="3900" spc="-1" strike="noStrike">
                <a:solidFill>
                  <a:srgbClr val="99ff33"/>
                </a:solidFill>
                <a:latin typeface="Tahoma"/>
                <a:ea typeface="Tahoma"/>
              </a:rPr>
              <a:t>IQA)</a:t>
            </a:r>
            <a:endParaRPr b="0" lang="en-US" sz="39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7:41:26Z</dcterms:created>
  <dc:creator>MoZarD</dc:creator>
  <dc:description/>
  <dc:language>en-US</dc:language>
  <cp:lastModifiedBy>plan division kku</cp:lastModifiedBy>
  <dcterms:modified xsi:type="dcterms:W3CDTF">2010-03-22T10:12:50Z</dcterms:modified>
  <cp:revision>32</cp:revision>
  <dc:subject/>
  <dc:title>กลุ่ม 5 การประเมินและติดตามผลการจัดการศึกษา </dc:title>
</cp:coreProperties>
</file>